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F5F-F80D-475A-B5E0-1F47A48C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F76-25CC-4D2F-B3A7-2264EA5D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381-4883-459C-968C-1307EF23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922-AC0A-4995-865C-7EC07C8A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47A-253C-4DCF-88B5-702F23DD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9BF-0D2C-4488-845E-B7C0AA93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70F-5B79-45E8-AF3E-48C26EA6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994-EC21-450D-ABC9-FCC09FE6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7EA-A227-47A8-A388-4E2E438E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60E-66ED-45C6-AB52-E9592387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D78-B74E-4D03-9BEA-382FAC84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B79-5AE2-4DEC-B4B6-F953CB81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8C12-8FF7-4AD6-965E-E2568C2C2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45028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3ffc9"/>
                </a:solidFill>
                <a:latin typeface="Trebuchet MS"/>
              </a:rPr>
              <a:t>South Amer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160" y="6603840"/>
            <a:ext cx="6608520" cy="10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dbfe"/>
                </a:solidFill>
                <a:latin typeface="Trebuchet MS"/>
              </a:rPr>
              <a:t>By: Cortney, Lax, Megan, Karla, Brett, and M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844720" y="711360"/>
            <a:ext cx="431496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Rainfall and climat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Brazil: 20 degrees-30 degrees  celsi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rainfall: 40 mm. to 150 m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Upper South Amer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Temp: low teens to high 20'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Rain: 10-120m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Lower South Amer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Temp: 15-40degrees celci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Rain:55-95m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Physical Featu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8840" y="1727280"/>
            <a:ext cx="9371160" cy="63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9900ff"/>
                </a:solidFill>
                <a:uFillTx/>
                <a:latin typeface="Trebuchet MS"/>
              </a:rPr>
              <a:t>Andes Mounta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ff"/>
                </a:solidFill>
                <a:latin typeface="Trebuchet MS"/>
              </a:rPr>
              <a:t>runs through Peru, Bolivia, Chile, and Argent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ff"/>
                </a:solidFill>
                <a:latin typeface="Trebuchet MS"/>
              </a:rPr>
              <a:t>its highest peak, Mt. Anconcagua, is 22,834 f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ff"/>
                </a:solidFill>
                <a:uFillTx/>
                <a:latin typeface="Trebuchet MS"/>
              </a:rPr>
              <a:t>Amazon Rain For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rebuchet MS"/>
              </a:rPr>
              <a:t>covers 40% of South America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rebuchet MS"/>
              </a:rPr>
              <a:t>world's largest rainfor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rebuchet MS"/>
              </a:rPr>
              <a:t>between 20-40 million species(mostly insects) inhabit Amazon Rain For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rebuchet MS"/>
              </a:rPr>
              <a:t>20% of the world's oxygen produced the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0000"/>
                </a:solidFill>
                <a:uFillTx/>
                <a:latin typeface="Trebuchet MS"/>
              </a:rPr>
              <a:t>Amazon Riv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rebuchet MS"/>
              </a:rPr>
              <a:t>carries 1/5 of the world's fresh river wa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rebuchet MS"/>
              </a:rPr>
              <a:t>6,280 km lo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rebuchet MS"/>
              </a:rPr>
              <a:t>runs through Brazil, Colombia, Ecuador, Peru, and Venezuela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More Physical Featu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9900"/>
                </a:solidFill>
                <a:uFillTx/>
                <a:latin typeface="Trebuchet MS"/>
              </a:rPr>
              <a:t>Land Cov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Trebuchet MS"/>
              </a:rPr>
              <a:t>tropical rain forests in northern areas,  Amazon Ba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Trebuchet MS"/>
              </a:rPr>
              <a:t>semi-desert and desert areas in western to southern are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Trebuchet MS"/>
              </a:rPr>
              <a:t>croplands and grasslands cover eastern to south eastern are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Trebuchet MS"/>
              </a:rPr>
              <a:t> </a:t>
            </a:r>
            <a:r>
              <a:rPr b="0" lang="en-US" sz="2100" spc="-1" strike="noStrike" u="sng">
                <a:solidFill>
                  <a:srgbClr val="00ff00"/>
                </a:solidFill>
                <a:uFillTx/>
                <a:latin typeface="Trebuchet MS"/>
              </a:rPr>
              <a:t>Major Physical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Andes Mounta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Brazilian Highla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Pamp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Patagon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Amazon Ba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Guiana Highla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Amazon Riv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0"/>
            <a:ext cx="9672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Natural Re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920" y="798480"/>
            <a:ext cx="420084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rebuchet MS"/>
              </a:rPr>
              <a:t>Coffee Beans   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Trebuchet MS"/>
              </a:rPr>
              <a:t>Cocoa Bea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Trebuchet MS"/>
              </a:rPr>
              <a:t>Banana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Trebuchet MS"/>
              </a:rPr>
              <a:t>Timb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Trebuchet MS"/>
              </a:rPr>
              <a:t>Rubb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ff"/>
                </a:solidFill>
                <a:latin typeface="Trebuchet MS"/>
              </a:rPr>
              <a:t>Go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rebuchet MS"/>
              </a:rPr>
              <a:t>Gaux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Trebuchet MS"/>
              </a:rPr>
              <a:t>Sp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Trebuchet MS"/>
              </a:rPr>
              <a:t>Sal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Trebuchet MS"/>
              </a:rPr>
              <a:t>Uraniu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Trebuchet MS"/>
              </a:rPr>
              <a:t>Iron 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ff"/>
                </a:solidFill>
                <a:latin typeface="Trebuchet MS"/>
              </a:rPr>
              <a:t>Silv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rebuchet MS"/>
              </a:rPr>
              <a:t>Co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Trebuchet MS"/>
              </a:rPr>
              <a:t>Natural g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Trebuchet MS"/>
              </a:rPr>
              <a:t>Oi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495680" y="812880"/>
            <a:ext cx="51865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99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Trebuchet MS"/>
              </a:rPr>
              <a:t>Diamond</a:t>
            </a:r>
            <a:r>
              <a:rPr b="0" lang="en-US" sz="2700" spc="-1" strike="noStrike">
                <a:solidFill>
                  <a:srgbClr val="ff00ff"/>
                </a:solidFill>
                <a:latin typeface="Trebuchet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ff"/>
                </a:solidFill>
                <a:latin typeface="Trebuchet MS"/>
              </a:rPr>
              <a:t>Fis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ff"/>
                </a:solidFill>
                <a:latin typeface="Trebuchet MS"/>
              </a:rPr>
              <a:t>Forest Products</a:t>
            </a:r>
            <a:r>
              <a:rPr b="0" lang="en-US" sz="2700" spc="-1" strike="noStrike">
                <a:solidFill>
                  <a:srgbClr val="ff00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2440"/>
            <a:ext cx="9672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Products/Land U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9760" y="894960"/>
            <a:ext cx="9091800" cy="68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Products: </a:t>
            </a:r>
            <a:r>
              <a:rPr b="0" lang="en-US" sz="2100" spc="-1" strike="noStrike">
                <a:solidFill>
                  <a:srgbClr val="c6efff"/>
                </a:solidFill>
                <a:latin typeface="Trebuchet MS"/>
              </a:rPr>
              <a:t>                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rebuchet MS"/>
              </a:rPr>
              <a:t>Perfume           </a:t>
            </a:r>
            <a:r>
              <a:rPr b="0" lang="en-US" sz="2700" spc="-1" strike="noStrike">
                <a:solidFill>
                  <a:srgbClr val="0000ff"/>
                </a:solidFill>
                <a:latin typeface="Trebuchet MS"/>
              </a:rPr>
              <a:t>Urban</a:t>
            </a:r>
            <a:r>
              <a:rPr b="0" lang="en-US" sz="2700" spc="-1" strike="noStrike">
                <a:solidFill>
                  <a:srgbClr val="ff0000"/>
                </a:solidFill>
                <a:latin typeface="Trebuchet MS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Body 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Bath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Bath S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So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Diam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Jewel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rebuchet MS"/>
              </a:rPr>
              <a:t>Go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nd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Ranching/He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Commercial F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Wide Spread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Fore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Major Cit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720" y="1422360"/>
            <a:ext cx="9690120" cy="57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Bogota                              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Sao Paulo                  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Rio de Janeir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Salvad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Cara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Lapa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Belo Horizo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Brasil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Guayaqui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Medell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Santiag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Lim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Buenos Ai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Qui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More Major Cit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680" y="1726920"/>
            <a:ext cx="967248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Bogota- Guatauita Lago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Indigerous- People store go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Rio de Janerio- Rio is a well known Brazilian City.  Famous land marks like Copacacbana Bea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Buenos Aires- Rich cultral identety.  Lots of places to go and see like worlds finest opra hou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effco Schools</cp:lastModifiedBy>
  <dcterms:modified xsi:type="dcterms:W3CDTF">2010-04-15T20:23:49Z</dcterms:modified>
  <cp:revision>1</cp:revision>
  <dc:subject/>
  <dc:title>PowerPoint Presentation</dc:title>
</cp:coreProperties>
</file>